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2656"/>
        <c:axId val="45474673"/>
      </c:barChart>
      <c:catAx>
        <c:axId val="89122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74673"/>
        <c:crosses val="autoZero"/>
        <c:auto val="1"/>
        <c:lblAlgn val="ctr"/>
        <c:lblOffset val="100"/>
        <c:noMultiLvlLbl val="0"/>
      </c:catAx>
      <c:valAx>
        <c:axId val="45474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2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52A-CEF0-48B4-AB48-12767631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A2A-D87D-45D9-80A9-ACDE03E6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DB1-7E80-4047-A8ED-FB4FCE0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65-7954-44AC-8893-3D55D184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C90-33EE-4811-A9B3-A6B83EF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F47-13FA-467E-B7C9-66914A6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170-07E9-4DAE-8944-39A01B5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92D-2A2F-43FC-8560-553F0ADD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87D-5E9A-4A01-8D8D-19E2E82A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3F1-FEDF-4220-A452-F768E4B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72E-4161-4646-BDF9-0B71A78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F7A-BF4B-4A32-89B6-AA19B22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EF98-3F10-4E5E-BF97-ABA2E799D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