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69743"/>
        <c:axId val="20422572"/>
      </c:barChart>
      <c:catAx>
        <c:axId val="58969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22572"/>
        <c:crosses val="autoZero"/>
        <c:auto val="1"/>
        <c:lblAlgn val="ctr"/>
        <c:lblOffset val="100"/>
        <c:noMultiLvlLbl val="0"/>
      </c:catAx>
      <c:valAx>
        <c:axId val="20422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9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176-E413-4C8E-926B-05AEADEE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072-2DE1-4084-9D31-30392AC3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AC0-B02B-40A6-B64F-09A4D433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ABA-41A1-4200-8D55-29C54CEF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556-EDF9-4865-94B8-21A2D022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EA9-6AB7-40B1-879B-10CBF07B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891-7AE1-40B5-94DD-CED0649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63F-CDED-48F2-A0E1-79934E37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380-CA15-45F9-A7A4-4BE2BF84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018-463E-4778-A06D-94838F1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001-5EFD-47E3-8820-0C7E6E32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70D-9AA6-4BF5-BCA2-C65EC64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AA61-3130-4E42-BDD4-F065FA03AF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