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28816"/>
        <c:axId val="28981581"/>
      </c:barChart>
      <c:catAx>
        <c:axId val="33328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1581"/>
        <c:crosses val="autoZero"/>
        <c:auto val="1"/>
        <c:lblAlgn val="ctr"/>
        <c:lblOffset val="100"/>
        <c:noMultiLvlLbl val="0"/>
      </c:catAx>
      <c:valAx>
        <c:axId val="28981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28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0A0-9A0B-40FB-869D-8FC565E2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804-3789-43DD-BE06-07F9814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421-16CF-4C6B-B329-8F10A2FA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3F4-5B8D-48BA-821F-B37D11F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5A1-6645-44D0-92D3-C9450267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290-2AA6-4480-886C-AEFD263A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20E-89F6-480D-BA7C-624EAE95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A17-E24C-42B3-92B9-BF222E34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46C-95DE-46D4-846D-0FA48D81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7EF-776F-45DA-AFF7-8F17291C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19B-5B1B-43B9-9C95-F29C78C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E9D-ABB2-42C2-909C-D10D7CD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E31E0-1F92-4550-81DE-57C1A316A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