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99060"/>
        <c:axId val="43933145"/>
      </c:barChart>
      <c:catAx>
        <c:axId val="77899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3145"/>
        <c:crosses val="autoZero"/>
        <c:auto val="1"/>
        <c:lblAlgn val="ctr"/>
        <c:lblOffset val="100"/>
        <c:noMultiLvlLbl val="0"/>
      </c:catAx>
      <c:valAx>
        <c:axId val="43933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99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395-DA31-470B-B1A7-9380F091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3B5-F792-4307-A655-71FB70B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8B9-6B1D-46AA-BEEE-7525FAE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82C-EDBD-4051-8E52-E4231039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80B-BC64-43BE-923F-14F43A7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8B7-1906-4873-92FB-04FC73F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128-FCE6-4473-8848-1B4B1385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BAB-B6CB-426B-9ECD-D8353EF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C42-668F-4D09-BD93-A1C6D4E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3B2-DA86-4E69-A6FF-406A6CB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2A7-C21A-4FD6-B9DA-6FA0123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0CF-F492-4B6F-84C3-C4ADC67A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78647-2AE2-4880-9A88-C779DD05B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