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73905"/>
        <c:axId val="68540620"/>
      </c:barChart>
      <c:catAx>
        <c:axId val="84473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40620"/>
        <c:crosses val="autoZero"/>
        <c:auto val="1"/>
        <c:lblAlgn val="ctr"/>
        <c:lblOffset val="100"/>
        <c:noMultiLvlLbl val="0"/>
      </c:catAx>
      <c:valAx>
        <c:axId val="68540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73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BCA-E017-459D-B605-EE02F189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6F4-1554-4D4A-B475-5DFD7327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8BB-7595-49FF-91E7-603D5E72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686-2B86-4287-8DDB-CBE8CB42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CF7-4205-4CCF-85F4-F3E0164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85E-C032-4F8A-A423-A53697D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355-1828-4CBA-A5E8-45F2934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C6B-DEFA-49BB-8F89-79D5CDF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30F-B49F-421D-9588-9665C3EA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514-A511-4746-B745-D58FC89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6E6-E247-4A23-BDD0-78D3F78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91E-B1E9-47EA-9529-2A17A32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9586E-6940-4ACC-9070-38007BA8A5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