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66222"/>
        <c:axId val="44988332"/>
      </c:barChart>
      <c:catAx>
        <c:axId val="55566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88332"/>
        <c:crosses val="autoZero"/>
        <c:auto val="1"/>
        <c:lblAlgn val="ctr"/>
        <c:lblOffset val="100"/>
        <c:noMultiLvlLbl val="0"/>
      </c:catAx>
      <c:valAx>
        <c:axId val="44988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66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43DB-3359-48BA-A288-2A9D9BE9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12D-D2EB-4776-BAC5-712335AB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8E79-2559-48F5-BADB-35A45998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9413-A2AD-4E2F-A2FC-CEC65AB0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F54-C208-4E9E-B905-5C9A089C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62D-EE1C-41DF-BDFA-46593CCE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AB2C-36C9-4EB8-8F19-B54E7F3A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27B-0CCA-49FC-8578-7E67F4D1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592-6829-4557-A31C-3FB96F15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613-9646-47AA-841A-5702C8E4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B14-D5B2-4C81-9DBC-F701EB9F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E4F0-3F8B-467A-A21F-C91C0A63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066D2-E2B9-43A6-AB07-113E5D0351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