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00869"/>
        <c:axId val="8139075"/>
      </c:barChart>
      <c:catAx>
        <c:axId val="64500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075"/>
        <c:crosses val="autoZero"/>
        <c:auto val="1"/>
        <c:lblAlgn val="ctr"/>
        <c:lblOffset val="100"/>
        <c:noMultiLvlLbl val="0"/>
      </c:catAx>
      <c:valAx>
        <c:axId val="8139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00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916-E625-4D90-8A8E-439F1922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0D9-99AA-4380-8D9C-E199DF85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10B-0A3E-4716-A949-F791604B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860-A6A3-4A67-8E61-1DAC32D9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47A-DCEC-4345-8E25-9D25E8B7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F8B-0D87-4280-81C3-6494196E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28A-0B4F-4733-9F51-87E8E87C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F9A-F68F-4CE8-9CC4-2A7F305F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D24-E86E-4E39-8EB6-E011B08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CAC-7CBF-4413-8DCD-00C02CE3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2CB-EE86-4C79-9286-8147BA6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D3B-ACC3-4FBC-920E-884E673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0B565-C114-4282-A749-306117935C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