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50590"/>
        <c:axId val="43887808"/>
      </c:barChart>
      <c:catAx>
        <c:axId val="71350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87808"/>
        <c:crosses val="autoZero"/>
        <c:auto val="1"/>
        <c:lblAlgn val="ctr"/>
        <c:lblOffset val="100"/>
        <c:noMultiLvlLbl val="0"/>
      </c:catAx>
      <c:valAx>
        <c:axId val="43887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0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653-5C8D-45D7-99CA-183C4F6E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AE2-DBF8-452C-B12C-0137835E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8E6-7DA6-465E-92F1-B008E611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327-7995-4553-9C5C-F07E025F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EB6-AA57-47B7-B0F7-C5AA191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60A-55C5-467B-BC1D-AA53D07D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34A-E405-4604-B14A-E25C33FB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E3C-D35B-4565-8DE3-0F1565DA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F20-71E2-4410-9890-AF762EF0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A5F-ABDE-43C5-B308-A06B2DC9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9BA-AFE9-4D83-B18E-FBCB54CC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ECC-92C7-428A-88A4-79CCD851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F31DA-321F-4808-BB5A-A5B234C8C5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