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43056"/>
        <c:axId val="36679416"/>
      </c:barChart>
      <c:catAx>
        <c:axId val="34443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79416"/>
        <c:crosses val="autoZero"/>
        <c:auto val="1"/>
        <c:lblAlgn val="ctr"/>
        <c:lblOffset val="100"/>
        <c:noMultiLvlLbl val="0"/>
      </c:catAx>
      <c:valAx>
        <c:axId val="36679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43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253-74E8-422D-A1A6-3611FE54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B42-B9DF-4744-906B-680FD13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128-CC18-44BD-9114-85876FF4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1ED-321F-4192-AAD8-34C154D9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C91-19EA-4641-BC52-BEE16928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C88-D2F6-436A-85E1-FB89EFB2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B87-07BE-40EA-8B30-D274001F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D1C-7589-43E6-84AF-F92BA175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A5A-C875-472A-A5EC-2EB79F5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FBA-9C69-44BD-A0B1-8E0A9DE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572-E46D-4A4F-A751-EF8EDF1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DDE-8333-4C12-A97B-33EE188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F838-BCD2-4EA8-A829-CA0387326F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